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9428"/>
        <c:axId val="92019722"/>
      </c:barChart>
      <c:catAx>
        <c:axId val="90599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19722"/>
        <c:crosses val="autoZero"/>
        <c:auto val="1"/>
        <c:lblAlgn val="ctr"/>
        <c:lblOffset val="100"/>
        <c:noMultiLvlLbl val="0"/>
      </c:catAx>
      <c:valAx>
        <c:axId val="92019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9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C08-9B47-48EC-9C88-E7560633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AC6-308F-4EA9-9882-D0C1F46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19E-E32F-41E6-87E2-B373FB1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555-D6ED-40EC-B3F0-7AE284CF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1E9-B765-4A7C-AFEA-BD4EA52D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5B0-1483-4189-BAA4-C23E8F73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76F-67CC-4FB5-8DAB-1EBA9CC0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0B5-4FC4-4257-ACFF-E413786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2D7-9DCF-4407-ACC4-FE41D06F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D71-0752-4FE1-9FCB-55FD36B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3CB-01AD-4EAE-A440-F19F746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6DD-2D61-4873-B7EB-DC11768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8761-EABA-493D-AFD4-80D621F7B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