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91168"/>
        <c:axId val="79270233"/>
      </c:barChart>
      <c:catAx>
        <c:axId val="40391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70233"/>
        <c:crosses val="autoZero"/>
        <c:auto val="1"/>
        <c:lblAlgn val="ctr"/>
        <c:lblOffset val="100"/>
        <c:noMultiLvlLbl val="0"/>
      </c:catAx>
      <c:valAx>
        <c:axId val="79270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91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D64-5AD1-458A-B056-C2DBF858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EE5-9157-4E2F-9766-E441F74C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A9A-D2AF-40FE-B8D7-DCF5707B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10A-87F7-4142-A24B-D7F39ABF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623-145E-4A84-B9AD-04095951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B2F-FFC3-40D9-9AC2-CEAA19D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3EE-4AC4-4BFB-A54D-FF7A3D7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7F7-575E-4EEC-80D4-7A0630C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C1A-A233-410A-A3C4-A79B3EF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975-2BFD-411E-80A0-1C6D66B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E0E-ABEF-4126-A252-C659DD03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F7B-A557-4EC9-BEC6-7E5DE36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9D538-6893-43E8-9DEE-F657775993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