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23455"/>
        <c:axId val="78420348"/>
      </c:barChart>
      <c:catAx>
        <c:axId val="27423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20348"/>
        <c:crosses val="autoZero"/>
        <c:auto val="1"/>
        <c:lblAlgn val="ctr"/>
        <c:lblOffset val="100"/>
        <c:noMultiLvlLbl val="0"/>
      </c:catAx>
      <c:valAx>
        <c:axId val="78420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23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C60-B753-4A67-A256-EDFED390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B1B-0154-48CE-9E32-37A636C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B60-1840-4692-B1FA-88848F84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541-795A-4D9D-9D48-61EA6D60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421-0AC2-4D18-9856-2E53A834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9EA-14EE-469D-98FB-C16E38B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31B-0F8B-4B70-8E55-1E9E201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9FB-A9CF-4380-8E0B-F036A48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2D8-F394-49F7-949E-831EA87E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585-1D5A-47D5-BA47-7F2AF4C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C92-C610-46A5-8047-573F108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BE0-5EED-40BE-B290-7DC4814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A144-8B2A-4AE2-92AC-CEACBE0228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