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7052805"/>
        <c:axId val="94887701"/>
      </c:barChart>
      <c:catAx>
        <c:axId val="7705280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887701"/>
        <c:crosses val="autoZero"/>
        <c:auto val="1"/>
        <c:lblAlgn val="ctr"/>
        <c:lblOffset val="100"/>
        <c:noMultiLvlLbl val="0"/>
      </c:catAx>
      <c:valAx>
        <c:axId val="9488770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705280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D6436-8757-4D5A-8ADC-CE30C0C94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E7A9E-7837-47F5-839F-238AF7C2C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67EE1-FB0A-4F72-896F-45C51ABA1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AF186-B607-4E36-8724-F49C13C41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E1C6A-E468-4169-A6FA-995DC9E8D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A2392-5644-4313-B7E8-71D88C930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0927E-6EAF-4A0D-B764-AE4543D90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04E31-883E-4F56-B5BD-E95B358FC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2FA58-827C-4D7B-B6FD-F555D0778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51A2F-62EE-45EE-964C-61DFD404A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7D1D7-C4D6-4DA5-A8E2-14B438713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6DDFC-7556-4F58-9BDA-252FE404F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E67AE5-8EDE-4893-96EE-928BBC88E66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