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20103"/>
        <c:axId val="37665043"/>
      </c:barChart>
      <c:catAx>
        <c:axId val="59220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65043"/>
        <c:crosses val="autoZero"/>
        <c:auto val="1"/>
        <c:lblAlgn val="ctr"/>
        <c:lblOffset val="100"/>
        <c:noMultiLvlLbl val="0"/>
      </c:catAx>
      <c:valAx>
        <c:axId val="37665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0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FC7-6F43-44A8-8236-A1F09935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914-AF9F-4D0C-B828-8AEFB895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315-A444-4F13-916B-45CEA6BD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47F-8855-4764-AE4E-78CFABF1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E3E-3626-47E0-A585-DAC01687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FC6-478C-46A6-855F-4891253A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89D-557D-4A5F-86E9-A9A428D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F75-1D6C-4D35-83B4-A9003AA6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7E4-A137-49FC-B1D2-EA4A8207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EC5-359B-42AC-A13F-13094F8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B14-37D3-4840-BC16-BDC1B136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787-C08F-48B0-92B4-63820DB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4521A-7170-4F24-B5B7-CF4913B927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