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35172"/>
        <c:axId val="86801854"/>
      </c:barChart>
      <c:catAx>
        <c:axId val="23435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1854"/>
        <c:crosses val="autoZero"/>
        <c:auto val="1"/>
        <c:lblAlgn val="ctr"/>
        <c:lblOffset val="100"/>
        <c:noMultiLvlLbl val="0"/>
      </c:catAx>
      <c:valAx>
        <c:axId val="86801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5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8AE-6BDD-4791-9530-3085BD6D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1E9-77D8-4E55-92D2-6878AEBA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6AB-01C0-407B-9B3B-478A6159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2E7-E62D-4CB0-BD7C-33F26D0B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3AF-C8F2-444A-90C1-1ED9CBB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8C0-8069-4B95-B957-A18C56A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406-FFF9-4E42-9F52-6D235EF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013-38A6-4C4D-99C7-B8CF75B9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D83-3D92-42A3-BD93-C90C8B2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BD4-8383-4655-B238-2612DA48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949-0426-4661-B6DB-1726C5F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422-7A49-45A9-BAAE-FACF533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8B8E3-737E-40E1-A082-3FE14A461C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