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61278"/>
        <c:axId val="26666722"/>
      </c:barChart>
      <c:catAx>
        <c:axId val="236612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666722"/>
        <c:crosses val="autoZero"/>
        <c:auto val="1"/>
        <c:lblAlgn val="ctr"/>
        <c:lblOffset val="100"/>
        <c:noMultiLvlLbl val="0"/>
      </c:catAx>
      <c:valAx>
        <c:axId val="266667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612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3BF-28D1-42E9-8694-44741043E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9E1-566F-4DDA-97AF-507E400B2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7AA2-5D9B-49BA-B2E0-BD5164165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3D6-C9DC-4409-A619-1EF6306E2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38E-F202-4961-A24E-5EAF4F56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2C2-CB7D-4EFA-8612-7CB5BBFA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F736-EBDC-4C3A-9DCF-CC7707C9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ADD-BEB8-45C7-8C19-F98BFC26C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3659-8D4C-4B02-A294-33A66765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4E4D-A14C-4C0D-8411-7BBA2197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DE8D-3105-4500-BC78-3F3446F5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2FA1-2C51-4537-A172-02CE759A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A16A7-CF0A-45CE-B2C2-C608769FF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