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000456"/>
        <c:axId val="96860833"/>
      </c:barChart>
      <c:catAx>
        <c:axId val="340004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860833"/>
        <c:crosses val="autoZero"/>
        <c:auto val="1"/>
        <c:lblAlgn val="ctr"/>
        <c:lblOffset val="100"/>
        <c:noMultiLvlLbl val="0"/>
      </c:catAx>
      <c:valAx>
        <c:axId val="968608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0004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8A9B-C329-4A05-A082-449A6C106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DED4-714F-4454-A756-A36663E4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3882-E754-4E85-8D10-86F087B7D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59EC-02F9-4E5D-9143-EBC47F005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4EAC-E69C-4625-A531-42484BEC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A4D8-773E-4605-9EA7-DFFEA8D0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90DD-928A-4BF2-ABE0-2B5A4A31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A3F3-63D6-4CAA-BBD2-1828E2EF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1AD9-E6DD-48FB-9072-90CBFC4C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89E3-CCD2-4EB6-95F3-E9F36EFA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2A48-CFF1-4B49-9C43-0D336B9A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D6FE-AE7C-42DA-BEBF-A6E6FBFA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B480B-C5DB-4E94-904D-97AF68CCBA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