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4462"/>
        <c:axId val="34560673"/>
      </c:barChart>
      <c:catAx>
        <c:axId val="54404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0673"/>
        <c:crosses val="autoZero"/>
        <c:auto val="1"/>
        <c:lblAlgn val="ctr"/>
        <c:lblOffset val="100"/>
        <c:noMultiLvlLbl val="0"/>
      </c:catAx>
      <c:valAx>
        <c:axId val="34560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4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237-C296-45CB-ACA2-B9832209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251-FAD6-44B5-BB08-F6A2D5A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820-195F-4B70-AEFD-D9413D69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6A7-FE19-4880-BDB6-030E7419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499-01D5-49F8-B97E-5290CD2F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075-1E80-4F58-86A4-907025B3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A06-8C38-43CA-B1F8-CF3C7EA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0F8-166F-4808-BCC0-0DE9FC8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713-8C8B-4AEC-8714-E405FF3C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6F0-EE08-46D7-B7F4-04703F7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B6A-1BDB-4644-852D-91C8C5B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4EA-B966-4797-BE59-AD047D0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E4B0-F250-4ECA-A52E-3D1A9A34A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