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073460"/>
        <c:axId val="52349222"/>
      </c:barChart>
      <c:catAx>
        <c:axId val="820734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349222"/>
        <c:crosses val="autoZero"/>
        <c:auto val="1"/>
        <c:lblAlgn val="ctr"/>
        <c:lblOffset val="100"/>
        <c:noMultiLvlLbl val="0"/>
      </c:catAx>
      <c:valAx>
        <c:axId val="523492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0734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DB72-A1FA-4074-99AE-47FCB87CD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4E8B-8AA2-481A-B7BB-1C7366405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5494-2166-4878-A42C-A75DA58C5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9B3E-8D56-4F34-B935-5B6170F71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1B2A-0715-40E6-BFBC-5B65781BF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A9A7-297F-4DBF-9A8E-B038923CD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B927-F597-423E-B434-65C583878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BAA2-1D5C-4D2F-B22C-91DA671B7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315B-F016-44D4-83C7-B35C53144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0DB8-1BE5-4939-BD7B-E9C05491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1D56-86FA-4F0D-B5AC-B2F5A43B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0149-B7E2-45EE-B107-47AE2470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D35E10-096E-4315-9DC2-120EA6FCA76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