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82582"/>
        <c:axId val="82773436"/>
      </c:barChart>
      <c:catAx>
        <c:axId val="53682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3436"/>
        <c:crosses val="autoZero"/>
        <c:auto val="1"/>
        <c:lblAlgn val="ctr"/>
        <c:lblOffset val="100"/>
        <c:noMultiLvlLbl val="0"/>
      </c:catAx>
      <c:valAx>
        <c:axId val="82773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2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D71-1B88-4ED5-A526-313514ED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84B-43E9-4854-AA2E-662C0F1A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386-3E66-4EFB-A864-4BB224D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86-F226-4240-A792-3DCE9494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3DB-D092-46C3-A2E9-D31B692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E64-88AB-432F-A473-4D05952A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607-2226-447E-8503-54C6C5C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FBB-5218-4B32-93D0-073A0CB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297-351D-4B77-AEDA-FBF2F51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B7D-5CC4-4782-B443-ED436EF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01D-1BF5-49FE-A28F-08B980C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240-49B4-41E5-9C2C-39C6850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78D02-CF10-430E-A67E-A5D054932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