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230373"/>
        <c:axId val="30528202"/>
      </c:barChart>
      <c:catAx>
        <c:axId val="722303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28202"/>
        <c:crosses val="autoZero"/>
        <c:auto val="1"/>
        <c:lblAlgn val="ctr"/>
        <c:lblOffset val="100"/>
        <c:noMultiLvlLbl val="0"/>
      </c:catAx>
      <c:valAx>
        <c:axId val="305282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2303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EB66-498C-474C-9156-34422026F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57D5-9F10-4B23-AF6C-18F9EB42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83F8-6045-4F86-A36A-4B62F92A1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62B2-511B-4D09-9A5D-5F6E3E533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D315-0EE2-4C2F-9AD8-CAFE424E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0239-3A6B-4D9C-BC46-A304C306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C37E-9773-4987-B85A-E69C6D4B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9419-0E48-4433-9420-14948E2B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C852-4351-40CA-A0DF-A05A350D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21EE-F51B-42D5-9EC0-9DFBCC92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8E53-55C4-4ECF-88AE-07D8692D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B844-287F-41E8-A2E9-75D04EF0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AEA5A-111A-4263-956D-7D3BC4C91F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