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53660"/>
        <c:axId val="20408189"/>
      </c:barChart>
      <c:catAx>
        <c:axId val="31453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8189"/>
        <c:crosses val="autoZero"/>
        <c:auto val="1"/>
        <c:lblAlgn val="ctr"/>
        <c:lblOffset val="100"/>
        <c:noMultiLvlLbl val="0"/>
      </c:catAx>
      <c:valAx>
        <c:axId val="20408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3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C03-E8D7-4577-8EE5-51FBDF7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197-0848-4554-8A2F-C543C9B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492-E578-46F3-8A09-ED58967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EE9-AD30-478B-B0AD-F51F578D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045-7023-448E-9952-E2DDADF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DC4-12CF-41C0-968D-3DA3DDCE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AB1-F6AA-4A0B-B90D-6640806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381-66CC-4635-B240-B6DA6DA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E62-3797-462A-A392-F662399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901-B503-4779-9B38-8CD1A6A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3E0-1768-4F87-AA74-5BD6BA9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8FC-BCC4-430A-8DB6-C7BDBB1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458D8-B3FF-44A4-B44D-FF55F9CFF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