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24978"/>
        <c:axId val="49511412"/>
      </c:barChart>
      <c:catAx>
        <c:axId val="84324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11412"/>
        <c:crosses val="autoZero"/>
        <c:auto val="1"/>
        <c:lblAlgn val="ctr"/>
        <c:lblOffset val="100"/>
        <c:noMultiLvlLbl val="0"/>
      </c:catAx>
      <c:valAx>
        <c:axId val="49511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24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D73-8D54-4B80-A0D9-51B8B943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0E6-C3F7-4C9D-B0C4-392BB85B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1A3-3783-4C2B-8AE9-1D1F5130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6AA-3CE8-44D5-907D-31AB6674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A23-F6C6-42F3-B925-3406152A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09D-0CD1-489B-AAA6-B3F0711D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B75-B8C2-40C8-B321-E09EFEA0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106-9349-4319-A49B-59F660A7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85C-F331-4E0F-B203-90872A5D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5BC-773D-4BB3-9031-ECA5F2AE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C11-DA61-43A6-BB29-07E4874E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389-EFD2-4524-BBFA-316E952F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98AFB-33F2-4155-B4DC-C849F16BF8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