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45437"/>
        <c:axId val="3887618"/>
      </c:barChart>
      <c:catAx>
        <c:axId val="23445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7618"/>
        <c:crosses val="autoZero"/>
        <c:auto val="1"/>
        <c:lblAlgn val="ctr"/>
        <c:lblOffset val="100"/>
        <c:noMultiLvlLbl val="0"/>
      </c:catAx>
      <c:valAx>
        <c:axId val="3887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45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2D9-13D6-418B-B22A-A7305CBE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850-1DC5-4D67-9F13-37989E6B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8DF-E70C-4701-9FD0-65528138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1B7-8B39-40E0-A839-FAAA89A3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3EB-FC65-4CDA-A726-EE583BD9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A7E-F82D-4CCA-B40B-053A0EAD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BA2-4D4B-4E99-91E8-EECA889C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85B-7E16-4763-A488-31D48E9D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0EC-B292-4E49-89BE-2FE61C92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CA0-5F03-4B1A-8490-0C60CE52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E32-788C-4184-9963-C871F12A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EFA3-936E-4212-A565-C9A7A4B3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1B51D-8FAF-46F1-B7C1-CAB7C55DB9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