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78802"/>
        <c:axId val="19898258"/>
      </c:barChart>
      <c:catAx>
        <c:axId val="12178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98258"/>
        <c:crosses val="autoZero"/>
        <c:auto val="1"/>
        <c:lblAlgn val="ctr"/>
        <c:lblOffset val="100"/>
        <c:noMultiLvlLbl val="0"/>
      </c:catAx>
      <c:valAx>
        <c:axId val="19898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8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B89-064D-4FFC-A449-C4C8CC63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65E-E2E0-418E-8F13-4D8035E7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27F-F234-4A8A-9729-E15500A9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742-AE02-484B-874C-ADAB75BE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981-857F-45AB-8474-9553ACB6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07E-8A94-4587-BFB5-2FAF1C85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BB1-F72D-4296-BD7A-9E56F363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7BA-A97D-490B-A80D-2CA0C4D2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6A4-AB28-4558-8285-F6BC7C80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2996-6B56-49EF-88CC-8E3E70B8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3AB-33C8-4346-9715-A988B717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8FB-D94E-44A5-B2D6-24FF864A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1452C-EDE4-444A-9870-B2446DAEB1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