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064076"/>
        <c:axId val="13038913"/>
      </c:barChart>
      <c:catAx>
        <c:axId val="33064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38913"/>
        <c:crosses val="autoZero"/>
        <c:auto val="1"/>
        <c:lblAlgn val="ctr"/>
        <c:lblOffset val="100"/>
        <c:noMultiLvlLbl val="0"/>
      </c:catAx>
      <c:valAx>
        <c:axId val="130389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64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022-2CFF-45B5-BBCB-E2C7C593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AEC-A2DD-4960-B310-82D8DB8F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423-5B36-424D-A4BB-DE33CB78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DE69-D443-4DE8-ABDB-F1164050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9C6-6347-4017-B4CB-3DB30C05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04A-CB57-4EB1-9D30-59302A31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463-9071-404B-992B-5EF76BBC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CA8-D495-4288-845A-CC8909FC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F35-39E7-41F7-AC11-B6571CE2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7C5-0E1F-4391-BA4C-63725224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D01-6BE8-4FAD-9061-D2FA0367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879D-FCF2-4308-B8A1-6DA5CEFD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D33AF-986F-41D8-B618-ACDC00B2B5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