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537255"/>
        <c:axId val="83443447"/>
      </c:barChart>
      <c:catAx>
        <c:axId val="245372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43447"/>
        <c:crosses val="autoZero"/>
        <c:auto val="1"/>
        <c:lblAlgn val="ctr"/>
        <c:lblOffset val="100"/>
        <c:noMultiLvlLbl val="0"/>
      </c:catAx>
      <c:valAx>
        <c:axId val="834434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372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7999-8776-4EAA-A66C-715438E0B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884F-93DE-4F33-B061-A1CE315F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BFDB-91B8-4241-9ECF-40F609B8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50EB-F98E-4232-ADFC-A79D0EAC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08CD-D779-4340-AF72-192E80D3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5C52-FA8B-4C6D-A544-CB92AF84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A423-0025-4A1B-A503-1B5E0CD6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62F5-0FB5-4BA8-A4F7-F350FBCE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8C86-6DC0-4F8B-83E7-59F3AC29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0E74-A2D3-456B-BB7E-644DF107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9E35-7E1C-4E4D-B7AD-0C592FCF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8227-6803-411B-AD51-C7D94494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3E421-D69D-4A3A-A17E-017BEC4748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