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16036"/>
        <c:axId val="66676437"/>
      </c:barChart>
      <c:catAx>
        <c:axId val="45216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76437"/>
        <c:crosses val="autoZero"/>
        <c:auto val="1"/>
        <c:lblAlgn val="ctr"/>
        <c:lblOffset val="100"/>
        <c:noMultiLvlLbl val="0"/>
      </c:catAx>
      <c:valAx>
        <c:axId val="66676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6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D92-B421-4DE7-B392-F2FBA130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EC1-C967-490F-A99E-50B4B75B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272-9E89-4CCD-A188-61EEFD68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6E1-5D45-48E4-9C39-04136D61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CFC-815B-4C9B-800B-83A492C8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C37-295C-4B93-9CC5-B266B49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557-1BA8-4BD9-8E98-2FFCCC6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F89-4F37-4BB1-9EC0-E765614D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598-722D-46F2-B61B-0027B6A2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8D6-2095-44AE-B1B3-2ED39D9B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DFD-4E13-4DF4-BB32-B2B2475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1D0-0071-4CEF-A931-5283A7FC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44B3B-C6D9-44C8-B157-021A2FA0DA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