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62599"/>
        <c:axId val="67226777"/>
      </c:barChart>
      <c:catAx>
        <c:axId val="81262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26777"/>
        <c:crosses val="autoZero"/>
        <c:auto val="1"/>
        <c:lblAlgn val="ctr"/>
        <c:lblOffset val="100"/>
        <c:noMultiLvlLbl val="0"/>
      </c:catAx>
      <c:valAx>
        <c:axId val="67226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62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26B-E2C1-4FD4-89AD-F924D085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3D8-F927-46EB-895C-07FB37C3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7F3-4D6D-4357-AC98-F93D8B7B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926-2573-4221-A6DF-5744AC37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E0A-8D6E-41E1-9C14-79DF56E8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D1C-7D31-4121-AA3A-04706505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85F-7853-4950-9361-61EE5AD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D01-F8BD-42EB-9B1B-1CC7B39F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592-4B7D-45CD-A8F7-3FAE73F4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947-83E8-48DE-9392-1294088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C31-DFCE-4B84-B6FD-1BF0F8A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349-4E1E-4631-89DD-0B73AB71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32C94-963C-4C77-A96A-FC3B7B29F3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