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48458"/>
        <c:axId val="8262760"/>
      </c:barChart>
      <c:catAx>
        <c:axId val="45948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2760"/>
        <c:crosses val="autoZero"/>
        <c:auto val="1"/>
        <c:lblAlgn val="ctr"/>
        <c:lblOffset val="100"/>
        <c:noMultiLvlLbl val="0"/>
      </c:catAx>
      <c:valAx>
        <c:axId val="8262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48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CBB-75B3-4388-8CA6-04663589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3F8-CA4C-4BA7-B6F5-BC849453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735D-1A4E-4498-8E2E-E83DA94D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5A8-637D-4739-9CAC-47BD3F71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C9C-7D67-4CA7-875B-858FD8F4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1FF-C1F7-4CBD-8E1E-2C225314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344-E578-4E75-A334-FD2D5FA3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1DE-3B2B-42E1-8646-4AE15600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B4C-47E7-4FB6-9142-25BDD41A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920-A86E-4571-AA23-79387E64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168-CB08-45D0-A041-FFDF815D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8D8-114E-4704-B12C-5E7CEC4B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97B67-771D-44DE-AFFE-3683E948B6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