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87552"/>
        <c:axId val="61078488"/>
      </c:barChart>
      <c:catAx>
        <c:axId val="96287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78488"/>
        <c:crosses val="autoZero"/>
        <c:auto val="1"/>
        <c:lblAlgn val="ctr"/>
        <c:lblOffset val="100"/>
        <c:noMultiLvlLbl val="0"/>
      </c:catAx>
      <c:valAx>
        <c:axId val="61078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87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C7E-88D3-4543-9CF9-E1FFDDE0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E12-562A-4F08-A2AF-EF14B5C6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917-485C-45C6-B21B-8B3F49BF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D54-E089-476B-977B-744E7ED9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A5B-B493-4EE5-AFFE-61F0D314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CEC-0545-47CB-A16B-ACA83466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A0F-FD45-473D-8BBA-2BCDC4A6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441-98E1-4727-85B8-0766CB50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567-F178-4C76-B5F3-628D7C44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51D-92DE-43D3-80C6-14D9CB0E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76A-B197-46CF-BAA4-FEC930E5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C05-ADB6-4295-8183-71602A44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17DE9-C9D6-461C-B37A-0B9B9A5A0E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