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78007"/>
        <c:axId val="45937780"/>
      </c:barChart>
      <c:catAx>
        <c:axId val="20878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37780"/>
        <c:crosses val="autoZero"/>
        <c:auto val="1"/>
        <c:lblAlgn val="ctr"/>
        <c:lblOffset val="100"/>
        <c:noMultiLvlLbl val="0"/>
      </c:catAx>
      <c:valAx>
        <c:axId val="45937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78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181-19FE-4B93-90F6-50829456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23F-3B4D-40C3-B47A-7DF752AA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342-A0A9-4389-878A-C3DD323E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667-C610-4DAD-880E-56AAC482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E06-4C25-4998-B22F-992741C5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8FE-0889-4A1E-8EE5-B3972159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071-87A4-47B0-9902-A0D4C9FA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413-C78F-44FA-AECC-F4139807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C19-7A95-410B-BB99-E043486D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F1D-63E7-4016-8865-B2E79212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96A-04C3-483F-965E-C64C559F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D79-0FF7-4E9C-8283-4C0872D4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8672E-D407-4CCD-ACB0-CA14EA4E26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