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389003"/>
        <c:axId val="6935545"/>
      </c:barChart>
      <c:catAx>
        <c:axId val="85389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5545"/>
        <c:crosses val="autoZero"/>
        <c:auto val="1"/>
        <c:lblAlgn val="ctr"/>
        <c:lblOffset val="100"/>
        <c:noMultiLvlLbl val="0"/>
      </c:catAx>
      <c:valAx>
        <c:axId val="6935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89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56A7-1B79-4B94-9C2B-ABD0A0F6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F6B3-AE27-4F1E-9F2E-CE11AC33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F8E4-66C3-4985-8944-295282F4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EC3B-C0CB-4D5C-BD24-106E4898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B788-69BB-4EC4-A758-BA69EF9F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569B-8831-4607-8974-19FE9291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59FB-DCAC-4CA3-8BB2-9DD4F636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4AB-4232-4C5B-935C-89383063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B167-B682-452B-A1A2-2E908C34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0276-BFB9-47A7-89F7-8A53FCA9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A27-303A-435B-BD1C-BC553BBC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909-CC05-43A0-98D6-5D5581A8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9CD6A-4905-48BA-A091-32A8CE2A3D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