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95040"/>
        <c:axId val="74033599"/>
      </c:barChart>
      <c:catAx>
        <c:axId val="56795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33599"/>
        <c:crosses val="autoZero"/>
        <c:auto val="1"/>
        <c:lblAlgn val="ctr"/>
        <c:lblOffset val="100"/>
        <c:noMultiLvlLbl val="0"/>
      </c:catAx>
      <c:valAx>
        <c:axId val="74033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95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469-3A94-4B7E-843A-145A549C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CBE-DC3D-467C-BD79-E698628D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992-EB0A-4424-8A9F-0816060B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A64-DC20-4DBE-A5EB-5AC7F69B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CD0-2DE5-4E08-8DBA-84052719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0FB-B82F-4252-835F-0F2D2F0F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36C-82DE-46E1-A730-BE87C333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567-B8A3-4C13-8EA4-56E899AA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ABD-41E5-48B1-8467-E0BC6C98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954-E399-4F2B-AAD9-3B5B2F7A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247-A80D-4188-8434-3554B94A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BA0-854B-4DA4-8EA2-9F1BF806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C939C-DF18-47C0-A8A5-1D711AD92A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