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05384"/>
        <c:axId val="50502564"/>
      </c:barChart>
      <c:catAx>
        <c:axId val="68605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02564"/>
        <c:crosses val="autoZero"/>
        <c:auto val="1"/>
        <c:lblAlgn val="ctr"/>
        <c:lblOffset val="100"/>
        <c:noMultiLvlLbl val="0"/>
      </c:catAx>
      <c:valAx>
        <c:axId val="50502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05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497-E043-415C-9B07-93D7496F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51D-92EC-451D-AE77-958A39D4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45C-9D96-41F5-8BF1-62663512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1E6-344B-49A7-9D58-B3703B66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8D7-940D-43A4-AEED-B2AB1C02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0A5-A089-4170-9A87-B0243528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9EE-5AA2-4C5E-9ACE-53533F0B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6DB-49F5-4CC4-A751-79EFE4C8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2EA-3FF9-4A9F-836E-D15DA553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103-7F98-4CF5-AD73-FF5CDF53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D2E-9643-4E1A-B6FE-6481AAC8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093-B906-45FB-A7A7-670AE503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E0A02-5179-46CD-8CC8-419492F02C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