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5534"/>
        <c:axId val="8586044"/>
      </c:barChart>
      <c:catAx>
        <c:axId val="8855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6044"/>
        <c:crosses val="autoZero"/>
        <c:auto val="1"/>
        <c:lblAlgn val="ctr"/>
        <c:lblOffset val="100"/>
        <c:noMultiLvlLbl val="0"/>
      </c:catAx>
      <c:valAx>
        <c:axId val="85860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5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B083-DF11-4E0F-AFB7-006BB147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B2DE-C663-4141-A8F9-907F4BC7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2544-2F06-4064-8926-A09E60B8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9D70-A4F1-460B-9FC7-4838B6A11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399A-0B31-4B8F-863D-67373677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37C6-965B-4BEF-BF2D-CB12CFC6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1734-4491-467C-978F-9DBB0B15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A53-5271-42F3-A34C-D17A230B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44AC-4A12-418D-939C-9520BCDA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9A85-A4AE-4DC4-B506-8A3702C4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D549-D3B8-4BA7-8D8B-2E156EE3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8DF0-2F3E-4765-A2DC-A0F8D333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D2A95-6BFC-491B-A010-0E50767C0F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