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7673"/>
        <c:axId val="36692014"/>
      </c:barChart>
      <c:catAx>
        <c:axId val="7777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92014"/>
        <c:crosses val="autoZero"/>
        <c:auto val="1"/>
        <c:lblAlgn val="ctr"/>
        <c:lblOffset val="100"/>
        <c:noMultiLvlLbl val="0"/>
      </c:catAx>
      <c:valAx>
        <c:axId val="3669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7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30F-8D70-4A89-99D9-0F1C31F5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5A8-3FE3-46EC-9676-6CFC8EB8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8DF-6B19-46B8-AD21-A19BE0AC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F8F-38B1-4096-B266-1F8BFE98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8D9-FC08-4E88-A297-333BFDD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7FA-DD61-4D87-8C89-A830962F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451-B1B8-4637-A86E-AFE4DFA7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129-4C72-4066-BF56-BC6372D6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A0E-0EE3-4243-A2C8-EFFC092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372-DE5F-469B-9DFA-45594C1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A8C-BE33-45BE-86D5-4EF08DCC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E17-7927-44F0-BB73-7F15AA7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0F5A-37DF-4F41-A952-F7719AF203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