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760846"/>
        <c:axId val="96725483"/>
      </c:barChart>
      <c:catAx>
        <c:axId val="637608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725483"/>
        <c:crosses val="autoZero"/>
        <c:auto val="1"/>
        <c:lblAlgn val="ctr"/>
        <c:lblOffset val="100"/>
        <c:noMultiLvlLbl val="0"/>
      </c:catAx>
      <c:valAx>
        <c:axId val="967254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608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BEFE-A93D-4170-A2A0-C354FF099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CA81-5EFB-47C0-B147-0E05DC88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1E59-FD71-4EB7-837E-87A24CF8E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C50D-DFCC-4AE9-9A84-A3B9A4139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41A0-FF9A-4AE7-8D7E-BFFD3317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6D6A-2946-4AD0-A203-F8A9ADA1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A9DC-2C10-4207-8F34-30473F68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3C1E-B249-40F1-95A5-147E33E8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FD9E-79E6-4FB2-84B8-DED7F8FF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0C7E-7743-4022-9845-D857854A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0695-51AE-484F-9213-8697BCED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7EF6-ED44-4423-9660-F9204C9B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B1119-6D4C-4B6A-935E-BE1A445524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