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26441"/>
        <c:axId val="69968645"/>
      </c:barChart>
      <c:catAx>
        <c:axId val="4902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68645"/>
        <c:crosses val="autoZero"/>
        <c:auto val="1"/>
        <c:lblAlgn val="ctr"/>
        <c:lblOffset val="100"/>
        <c:noMultiLvlLbl val="0"/>
      </c:catAx>
      <c:valAx>
        <c:axId val="69968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2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C06-B179-4B7B-9476-FD964658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319-4A88-4197-AF1A-2B1747A6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2C8-120B-4C23-9E56-5CA079C0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667-FB4E-4EF3-B58E-9B8155F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D52-1845-49EF-9D5C-BAD4AAC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EC9-CC77-41F2-BED9-C90F3779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02E-7855-49F4-A1A1-0B0AAE9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F9-67E6-4F95-AEB6-A39FC8C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CE0-99F1-4BBD-A1CD-42D2BA6D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9A9-5E94-40A0-BE8F-D4328A6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8A5-BC5D-4CC6-8359-16490C6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E95-DBF2-4533-8E59-8A1D597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191D9-8415-45FF-AF86-70A4E533D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