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42879"/>
        <c:axId val="3498854"/>
      </c:barChart>
      <c:catAx>
        <c:axId val="679428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8854"/>
        <c:crosses val="autoZero"/>
        <c:auto val="1"/>
        <c:lblAlgn val="ctr"/>
        <c:lblOffset val="100"/>
        <c:noMultiLvlLbl val="0"/>
      </c:catAx>
      <c:valAx>
        <c:axId val="3498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428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20B8-144C-4CE6-BF01-472E0314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C50-59F9-4B5A-93D4-6345CA85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3160-4B78-4169-8492-AB92CFBE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595-DC29-4DF7-BD04-98212C43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0D7-F63E-4594-B244-08001E6C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599D-6703-4B44-8121-E337E005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789-0BFE-4C31-B4AA-1CC0FDEA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A96-3024-4929-A754-1B043719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376A-9B9A-40EA-8F49-27713AFE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A9D-A735-4A1E-A728-3378B209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A77C-3838-4B1A-9C69-E00FA766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C8D-188E-4457-BFDA-C1995A4E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AD8E3-9E02-445F-9CE5-CC064056A1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