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68541"/>
        <c:axId val="40996972"/>
      </c:barChart>
      <c:catAx>
        <c:axId val="50868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96972"/>
        <c:crosses val="autoZero"/>
        <c:auto val="1"/>
        <c:lblAlgn val="ctr"/>
        <c:lblOffset val="100"/>
        <c:noMultiLvlLbl val="0"/>
      </c:catAx>
      <c:valAx>
        <c:axId val="40996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68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17E-F098-4722-8FB9-F8D395E2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101-1AB7-40A1-BCC4-C4B3016E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F62-42E5-4C6D-89EA-65EF87C5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DE0-FC70-442F-A164-EA4A2647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B70-CEC3-412C-962F-9086E3DA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FC8-F911-418B-B707-E6B9DE8D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04D-E96F-4CE2-B939-824300C6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2F7-9292-4AD1-96A8-9FC1E397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9BF-2503-4212-8B7E-D04594A8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846-E48C-490E-9DD7-2A0B75B7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C4D-DD4D-4E4D-8F0A-51D9C42D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788-C0A0-4BAE-BEF1-A3741B84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F0CA5-DDAE-45E3-BC6D-1E00CBBC0E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