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7316"/>
        <c:axId val="32959959"/>
      </c:barChart>
      <c:catAx>
        <c:axId val="54407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59959"/>
        <c:crosses val="autoZero"/>
        <c:auto val="1"/>
        <c:lblAlgn val="ctr"/>
        <c:lblOffset val="100"/>
        <c:noMultiLvlLbl val="0"/>
      </c:catAx>
      <c:valAx>
        <c:axId val="32959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7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CDF-7A7F-478B-AE6D-BFD5B005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FF4-82CB-4328-AE9A-8778FD20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37F-3C13-4570-990C-5CEEBB26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93D-8997-460D-B311-7F89676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4D2-A606-488E-9047-4985791A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BC-160A-4966-B829-DB27737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138-0BF8-4F61-B061-F8AF9186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C85-12BA-4128-BDC2-89E8973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8C7-CC5A-46C5-B131-869FB01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00-E7C3-4A1B-98CF-EF69154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C58-1CA7-448F-A5C3-BB0DCEA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670-3EBD-4092-A68B-E6297E19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7CB18-2118-4FF5-A5E0-A2CCA0666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