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93969"/>
        <c:axId val="12048828"/>
      </c:barChart>
      <c:catAx>
        <c:axId val="25993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48828"/>
        <c:crosses val="autoZero"/>
        <c:auto val="1"/>
        <c:lblAlgn val="ctr"/>
        <c:lblOffset val="100"/>
        <c:noMultiLvlLbl val="0"/>
      </c:catAx>
      <c:valAx>
        <c:axId val="12048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93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C42-1DE2-4359-AD5C-F77DF1CE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5A5-4A6C-4F45-870E-2EBD59AB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2DF-F847-420E-94BA-300DC4F0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CD1-94C1-4B39-ADDB-53467B61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262-8CD8-445C-A8A0-84D6194B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C00-8E2C-4FB6-A0BA-C8B765A0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624-3468-43A5-809F-EAEADA76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150-4CE1-43AE-9A51-917FAB2E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8D5-C1B0-4F6E-B4C1-D412DDD7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8CD-F43C-41B5-B29B-24FF5E5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0E8-9330-4651-BF0D-3701C6ED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9BD-2BF4-4F4D-ACDA-8D733C02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884F9-7941-43CA-AC0C-8E816E3CE5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