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98173"/>
        <c:axId val="36090364"/>
      </c:barChart>
      <c:catAx>
        <c:axId val="193981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90364"/>
        <c:crosses val="autoZero"/>
        <c:auto val="1"/>
        <c:lblAlgn val="ctr"/>
        <c:lblOffset val="100"/>
        <c:noMultiLvlLbl val="0"/>
      </c:catAx>
      <c:valAx>
        <c:axId val="360903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981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E795-5468-4E14-A3AD-A2363259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6E9-7EF8-478A-A8D1-63FA2AFF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E56-E8CE-44EB-86DB-7986B8F1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FCBB-C584-4C12-8C9C-48A74841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1DE7-FD69-4229-9311-57CB2545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6DD-377D-44C0-86E0-047C1E73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E43C-811B-4678-99FF-722E1AC7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1C9-CD54-4174-A291-656058FF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A8F-A1AF-4655-AFA0-9543D4EC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D1CA-8004-42AB-9865-FC397F33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F7E-8351-49E9-996D-E01DF877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B96-71CA-47A4-8EF7-50DB8A8C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927B2-6D91-47CC-826F-969E6B759F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