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939736"/>
        <c:axId val="34188959"/>
      </c:barChart>
      <c:catAx>
        <c:axId val="279397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188959"/>
        <c:crosses val="autoZero"/>
        <c:auto val="1"/>
        <c:lblAlgn val="ctr"/>
        <c:lblOffset val="100"/>
        <c:noMultiLvlLbl val="0"/>
      </c:catAx>
      <c:valAx>
        <c:axId val="341889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9397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3A73-B812-4711-8A31-FFCC5080C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CD82-59AD-43AA-BE68-03A73023A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19A6-7675-4BBC-A244-45A91D22D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77FA-3B1F-44B7-8693-7E00F874E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8DDF-994F-4364-94CC-510DA304B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0EDA-6DE7-4799-871B-5632E039F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77B6-96B9-4DC5-9E1B-FF63F85FE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5F84-8C1C-48DD-84F2-48C4BC9D7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EE09-9627-4924-BB74-0B5343ED4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E2DD-521B-4BF7-8DC6-F6959B8B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AAD2-FDE0-4DB0-A27B-AE87FBA2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9374-BD91-4A9A-AE1B-E1F71C4F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43A702-06EA-4939-A0AF-EF4659DB210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