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05052"/>
        <c:axId val="37677032"/>
      </c:barChart>
      <c:catAx>
        <c:axId val="65605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77032"/>
        <c:crosses val="autoZero"/>
        <c:auto val="1"/>
        <c:lblAlgn val="ctr"/>
        <c:lblOffset val="100"/>
        <c:noMultiLvlLbl val="0"/>
      </c:catAx>
      <c:valAx>
        <c:axId val="37677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05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AA3-4280-40AC-AD68-3EF1904A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9C5-E07B-4ECC-B4C3-253F778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7D0-8E7C-4DD9-B1A6-7277BF36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9C5-3422-4AFD-ADDC-31FB041A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536-331D-4923-A9B7-C2AD469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23D-4528-4613-A6BB-54839BB9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D6F-A9B2-474E-906F-7D16660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D6F-F7DE-4F7A-9315-B4DAE60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D13-DAB0-468F-87C9-FEA186D2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CC9-A339-43B2-A8D8-F489E2F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B0C-0C30-43E0-9306-EB5D62D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9F3-4954-4A3E-9B0F-D2C159AD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2812B-8098-4D7E-9C06-CED116B97E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