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0716"/>
        <c:axId val="89051311"/>
      </c:barChart>
      <c:catAx>
        <c:axId val="8670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51311"/>
        <c:crosses val="autoZero"/>
        <c:auto val="1"/>
        <c:lblAlgn val="ctr"/>
        <c:lblOffset val="100"/>
        <c:noMultiLvlLbl val="0"/>
      </c:catAx>
      <c:valAx>
        <c:axId val="89051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0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AA0-1E43-43D9-B7AE-DA8543C3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4A6-1A5B-4750-AFE9-704C2600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1CD-A34D-4FEC-8CB5-EC80F4DA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4BC-7154-4479-8AEE-0315B55E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598-EDBD-4BD4-AF49-19BEB2B1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066-208B-4F75-8F6E-B7B710B5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64C8-238D-4C15-9570-4DD467DF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94D-1855-469A-8B00-94C28C7F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14D-DAD5-422E-870B-767A8A5C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77B-B064-41E9-BFC9-3E15C8D6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EA5-C4B5-439C-A28D-0C636F0C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814-8F80-430F-B614-FB0736D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197EF-2406-4230-88EF-CDB3F3847B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