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78423"/>
        <c:axId val="33606286"/>
      </c:barChart>
      <c:catAx>
        <c:axId val="23878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6286"/>
        <c:crosses val="autoZero"/>
        <c:auto val="1"/>
        <c:lblAlgn val="ctr"/>
        <c:lblOffset val="100"/>
        <c:noMultiLvlLbl val="0"/>
      </c:catAx>
      <c:valAx>
        <c:axId val="33606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78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B37-32E4-491C-8D28-DF300751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181-590C-413D-8331-2C91A30C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D3C-D391-4198-9EE4-5055D8C6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4C4-4C8D-404D-B0F4-24F66DA5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030-0133-495A-BB3B-0165CD92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F9E-838A-4EFD-B94E-08E66379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F46-388E-4627-9086-C013C7EF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0DD-0A71-499F-A0A4-57F2B34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E27-D27D-4934-8B08-7EB673C6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931-C0C6-4C44-A213-213220EE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40F-FC38-4325-9444-7D84F180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D61-1B2C-4E1B-B72E-B615C93F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5AE4F-6148-450B-A152-44A83A5BBB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