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33301"/>
        <c:axId val="75617054"/>
      </c:barChart>
      <c:catAx>
        <c:axId val="73133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17054"/>
        <c:crosses val="autoZero"/>
        <c:auto val="1"/>
        <c:lblAlgn val="ctr"/>
        <c:lblOffset val="100"/>
        <c:noMultiLvlLbl val="0"/>
      </c:catAx>
      <c:valAx>
        <c:axId val="75617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33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688-8966-42C0-BD1D-E015089B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F16-6883-43F7-864C-F72B98CD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6DE-9F00-484E-909A-18A11257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32B-D333-4C1A-8B7B-CEF0F124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81E-8A21-4564-92F2-0624A3B7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58D-4DDD-452B-B336-C7EA400D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CE1-040F-475C-86DD-13ABF532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34D-AF08-4E47-BE40-78AC5C1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37E-83BB-4BA9-BA68-3ECB2412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8D5-BBE4-4738-A2C3-6DBDE8C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3C9-E26C-42DF-9307-318376E2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7E6-ACB0-4872-8D7B-2656671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5EE9E-1BD1-43C9-9EC3-510CE093B9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