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488068"/>
        <c:axId val="51463315"/>
      </c:barChart>
      <c:catAx>
        <c:axId val="174880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63315"/>
        <c:crosses val="autoZero"/>
        <c:auto val="1"/>
        <c:lblAlgn val="ctr"/>
        <c:lblOffset val="100"/>
        <c:noMultiLvlLbl val="0"/>
      </c:catAx>
      <c:valAx>
        <c:axId val="514633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880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2D05-08EB-4F9D-A1B7-EB240115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D41B-4024-400C-A290-8F0BA1EF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8555-90EF-41E3-8F8A-3983ACE1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E905-D29D-4183-AE89-6FDBD1EC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30D5-661E-480D-98BD-CAE9FF2F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0B6C-571F-4394-A7D8-3176E457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0E9D-E270-48F7-95EA-DA36470A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4D09-BCBA-4771-A83D-CA79C175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54A3-B3E6-4F99-AF05-B429F20B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75DE-95D6-4E25-A609-4A26CB27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EC58-1746-465A-BFB4-E749E050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4699-21D8-4D9C-866E-83BC811A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D5D0F-3B93-4CD2-96C0-DC3B6C49A3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