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16716"/>
        <c:axId val="59900653"/>
      </c:barChart>
      <c:catAx>
        <c:axId val="80716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0653"/>
        <c:crosses val="autoZero"/>
        <c:auto val="1"/>
        <c:lblAlgn val="ctr"/>
        <c:lblOffset val="100"/>
        <c:noMultiLvlLbl val="0"/>
      </c:catAx>
      <c:valAx>
        <c:axId val="59900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16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AAE-0985-4746-BCF0-EDC0CB78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FA6-40E2-430B-B975-F0872096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3B9-C0ED-43E5-BA5F-D580CC8E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8F8-5391-4A7B-A044-84E6CF3D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BF3-26BE-490E-8E12-728F07F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928-5E3C-485F-A6F5-BC70D42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750-4B0A-4ECD-A607-339128AE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3C6-1526-4A56-B92E-629B636D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C0B-B506-4AA6-88FB-E9C0596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F31-5A06-4B58-9FFA-C09FE20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5D7-4EFC-4960-8605-2D27CE6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FB9-EFE4-4FDF-9777-62C4649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19152-77D6-4AA1-A481-ED07F582A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