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88532"/>
        <c:axId val="31099632"/>
      </c:barChart>
      <c:catAx>
        <c:axId val="75588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99632"/>
        <c:crosses val="autoZero"/>
        <c:auto val="1"/>
        <c:lblAlgn val="ctr"/>
        <c:lblOffset val="100"/>
        <c:noMultiLvlLbl val="0"/>
      </c:catAx>
      <c:valAx>
        <c:axId val="31099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88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59D-BC82-4DC9-A85B-020DB7C2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8B1-3A4D-44A2-9834-8C1DA486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63E-4681-400A-8312-D78FA4B8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FE3-4702-43EE-8B3A-FF8B4B61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530-6449-4702-9627-66BB43BD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F27-6F92-43A5-9E45-3AE48C6C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810-3A3B-4FBC-ADD8-AE8762CD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4BC-A24C-43D6-B715-9BB3C8BB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857-C69F-4791-8871-1ACFC223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D6A-6C57-4303-938E-FFB9388F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6D0-C0CC-41A8-9760-D37BBBD0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FDC-1C15-4E0B-9BE8-4F18A3CD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27FB3-48E6-4A2C-978F-E8C18BBD83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