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16937"/>
        <c:axId val="12724898"/>
      </c:barChart>
      <c:catAx>
        <c:axId val="84816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24898"/>
        <c:crosses val="autoZero"/>
        <c:auto val="1"/>
        <c:lblAlgn val="ctr"/>
        <c:lblOffset val="100"/>
        <c:noMultiLvlLbl val="0"/>
      </c:catAx>
      <c:valAx>
        <c:axId val="12724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16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D78-DAC5-47FF-BBD5-ABD1EFF5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72B-7576-4F53-84A9-97CFE70A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C66-90A8-477A-9330-C450584D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5D8-6809-4745-A8C0-52C1EC57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08CF-3D0E-4311-99EB-3D24E02E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8555-726E-4104-8D02-99CB2890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1D5-7251-4C1E-8A90-8070599C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3D8-3717-4CC2-95C2-BA5470F5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FD8-573A-4F99-A2FF-EEE434B1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25E-C238-498B-9B1A-591C8C3D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6EB-A435-4727-ADBF-5046B465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855-862A-4F28-A5F2-09106848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076A9-B414-4C95-B8C5-43CD697189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