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20985"/>
        <c:axId val="30078457"/>
      </c:barChart>
      <c:catAx>
        <c:axId val="86020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78457"/>
        <c:crosses val="autoZero"/>
        <c:auto val="1"/>
        <c:lblAlgn val="ctr"/>
        <c:lblOffset val="100"/>
        <c:noMultiLvlLbl val="0"/>
      </c:catAx>
      <c:valAx>
        <c:axId val="30078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20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18B-8CF8-4F4F-98BA-C37D0E42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654-DC8D-4AA4-BC8A-29F94936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DA2-07CD-4916-8179-1C9A83D7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5DD-DCF0-4BD2-9F0B-CBF2410E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256-833D-42F0-96FA-5A6BD0F9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BA2-8E1C-4978-B390-700F766D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8C3-5809-4896-BD0B-A301CEB4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5C1-039F-436A-9C52-4504C8AA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2F5-3726-4A2D-A44B-FDA697A0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213-750C-4ECF-929C-2FB8B71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ACB-A69C-46CF-BD8A-D087F32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34D-C8CC-4952-8BD1-B00043ED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48019-40CD-4106-AF5B-4855B4C459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