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73284"/>
        <c:axId val="37049356"/>
      </c:barChart>
      <c:catAx>
        <c:axId val="63673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49356"/>
        <c:crosses val="autoZero"/>
        <c:auto val="1"/>
        <c:lblAlgn val="ctr"/>
        <c:lblOffset val="100"/>
        <c:noMultiLvlLbl val="0"/>
      </c:catAx>
      <c:valAx>
        <c:axId val="37049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73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8F8-87A7-4099-87F9-D65A4715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1D6-B6F3-477E-9280-22528590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EF0-B4FD-4DDC-9EEB-121EFFAA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1EA-FD1F-4440-880F-BB144415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19A-B479-4791-98D4-58C139E1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296-0B37-4B6E-83BC-B6698089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E35-1902-494A-9678-45DC6BD0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7D7-1A8A-43B2-8FFF-3698B048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844-4D1A-4746-B749-4D720751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299-34DE-40D0-9BCC-5B0839DA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D3B-FDE6-4A45-8574-660806EA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874-3E6C-490B-BB1D-0C436C1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CF2DD-217B-43DA-ABFC-33BDDB6211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