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33436"/>
        <c:axId val="37528799"/>
      </c:barChart>
      <c:catAx>
        <c:axId val="59533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28799"/>
        <c:crosses val="autoZero"/>
        <c:auto val="1"/>
        <c:lblAlgn val="ctr"/>
        <c:lblOffset val="100"/>
        <c:noMultiLvlLbl val="0"/>
      </c:catAx>
      <c:valAx>
        <c:axId val="37528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33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C2D-4552-4D90-93F5-D0B2E7C5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0E6-B3CD-4E7C-AE88-30D6D63C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D2F-CDE9-4958-AEA3-15B2CAA7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2A2B-FAB5-47FE-A02B-0A2E4AF7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7D4-3410-422E-9291-A0780409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8F3-4B4E-4641-A1AC-B68DA4E4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1B62-9958-471B-9FD4-C2AC7B0A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246-AB57-47FD-8FDE-C4D89DAD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C933-2151-444C-B817-11F36748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8898-CDCC-4B85-83B6-4E73AD6D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4B6-2051-4407-8236-E7ABF74B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046-FF97-46F2-A495-869529C6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7D46A-508F-43D7-AB44-83761EF8FA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