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29330"/>
        <c:axId val="88248098"/>
      </c:barChart>
      <c:catAx>
        <c:axId val="48329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48098"/>
        <c:crosses val="autoZero"/>
        <c:auto val="1"/>
        <c:lblAlgn val="ctr"/>
        <c:lblOffset val="100"/>
        <c:noMultiLvlLbl val="0"/>
      </c:catAx>
      <c:valAx>
        <c:axId val="88248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29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BA3-4621-43B3-B40C-5300E073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262-F334-47C0-9A51-214FAE57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B6F-9513-4988-9E4B-D8A9527C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2B2-E5B7-423D-875B-C0607D49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786-FA3E-405F-BB9D-ED981772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DA2-7E5E-4965-9215-EF65B31E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105-447A-4CDE-BF5E-25DC189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5CF-FF37-4155-B989-0C888127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5DB-DEE7-44E1-BA6A-394578DA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2B2-7045-40F0-89EB-328777EF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70D-0997-4683-9478-5BF1C28D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0D9-BDB7-4C3A-92C4-451F19F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3A2FE-8799-4817-AA38-81CB866389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