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26441"/>
        <c:axId val="87290977"/>
      </c:barChart>
      <c:catAx>
        <c:axId val="30826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90977"/>
        <c:crosses val="autoZero"/>
        <c:auto val="1"/>
        <c:lblAlgn val="ctr"/>
        <c:lblOffset val="100"/>
        <c:noMultiLvlLbl val="0"/>
      </c:catAx>
      <c:valAx>
        <c:axId val="87290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26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1D1-B525-4785-854D-2981AE4E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507-6B38-41A0-9E46-8AF9ADB6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EDA-F431-46C8-8923-84EFD65A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6B6-CA68-4F5C-9B77-D3DCEDCD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A4D-5A6B-4F06-B261-20A9EBEC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FE1-320E-4C18-9FAA-5D268693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575-DFF1-45E3-A92A-004D643C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AEC-42CE-49F5-A554-74745D9F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DDD-C9EC-41C1-BF29-9C5AF9CA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A53-57E7-42FD-91ED-807CE7C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5F8-05B1-4EAF-ABE3-09ED230B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C8A-E5B0-4941-BFD8-AFE46828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86207-81AF-45F1-B247-4AB422105F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