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43346"/>
        <c:axId val="18927592"/>
      </c:barChart>
      <c:catAx>
        <c:axId val="552433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27592"/>
        <c:crosses val="autoZero"/>
        <c:auto val="1"/>
        <c:lblAlgn val="ctr"/>
        <c:lblOffset val="100"/>
        <c:noMultiLvlLbl val="0"/>
      </c:catAx>
      <c:valAx>
        <c:axId val="18927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433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C9E-EEB0-4CE1-B8D0-15D47FC0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511B-87D3-4B0C-AC3A-DB9D632E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C71A-D7D5-4C9C-B9C7-28BD23E0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FED-63C4-4817-B9CB-ABB3CDC8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FAB2-F084-4CAF-BB17-F5FBA756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018-28D5-4A82-BE7C-8590C723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D936-2682-4623-A334-C5A2DB8B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CA4-ABA6-4196-B3AF-D15520C6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127C-0E98-4F1F-80A9-C2E7D3FA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0DE-60DF-45FE-A0CE-D10374A4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9A7-ECAF-4BD4-9384-10FF03A5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B77-BD96-4602-81FD-A46DF15A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4D228-D09C-4292-B845-61D4C3FB71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